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993A2-4DC5-454A-A04B-046E68A81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FDA27-53C0-4808-A667-006C7E357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8953C-3A44-4F29-B7F8-FF7611A9E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59A79-FAD8-46F4-810B-F563E78B0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133D1-D725-4B63-80F7-CF0EB7BE3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6B0D7-ACD1-4D8B-A0E8-5B64CD85C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A2201-5537-412A-A138-F54C1B893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AC1AE-37A9-43D8-868E-B44B5CDB2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5D2C5-6CAB-4DCF-8217-19D7252F9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7530B-1FD4-4CF3-9DF2-49744C48B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F3806-0E33-4CD4-A81B-024C459F5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58788-C389-4091-A0CB-637DA7E8C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AB717-B49A-4FDD-BB55-FF2A8DE6F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96B71-C33B-4D81-ADD9-BB7C1F85A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80FB0-1B13-4CFD-A254-E51577FD1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500E3-8D59-4943-96C7-5AE565CFF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4E413-796F-4C02-B54D-68C83156C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F9A1A15-82D9-4777-B42A-0B66AD406A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E6DADD2-52D2-4611-B2C2-C155D73F96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E0394B7-EA49-4C5C-913D-FA65A7479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45BAA3-8EB7-4917-9008-4A1EDC7099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9604A3-687B-4CEA-A0D6-43560FEE39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18E21-4D62-4EDB-B739-6CB391C32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3066BEC-5B8B-47D0-89AC-1157CAD4AA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5AB17F-5988-44B3-9CF3-8DC41DFC9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A9488F-AF73-438F-86AE-9CC24DE9E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66E3D4-DE85-405B-8C70-453EF1FDC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754DA4-3AB0-49F2-A4A5-6129DBFF7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F2503E2-EB39-4C5A-A1E6-5828DC89D8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1A63F35-88C1-4ECF-B49F-DD83D735C0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CF484-AB78-4B34-9680-EFC608B89B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E241B-DA63-4B9E-8B53-1987A8994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AA6F4-8551-45FD-B642-BD4F2FEE07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7D098-3348-4542-B6D8-9AD618FD1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102A21-C31C-4B3E-A4B8-C76895209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3F94A-EE51-4DB2-A97D-FE31B314BC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15D917-3ABB-4DB1-B320-0584753906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CD561-ED61-4FD0-A58D-B702AFA69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0076F-C446-42B4-B108-9F84C0900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422F9-2A71-4DDD-853F-F4E5A46D7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AAEDF-CF61-40E4-9B7F-E017CC3F85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ECAEAE-18D6-45FE-A385-9B4133B8DB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B51CAE-C669-40F9-B4F9-B84EED2422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527824B-22B7-4DFB-A831-0A35EFC4E6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2D5FB-7F10-4AA0-984F-341718B1A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260110-C39A-4404-876A-7FEBA15AE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F9519C1-AF97-47B5-91C0-5F6C63E6E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FF5F7E-3A40-4E51-9D9A-A3F533E87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81B3BA-2D41-4A5C-A0E5-19622B9F8C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13FB41E-22D3-4F28-B368-926382ACC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A71909-5BDB-41AF-92B3-2FE2CD88A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7B61B5-22C3-4C8F-9563-824F14DAE0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BBA3FE-C7BB-4F64-93B2-41A8A2EE3F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32076D-FD8E-4D4E-BDAA-9FD82A6076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E8F035F-03B9-4E13-9B1F-A0DDC9192E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82FAE-D889-42A0-BA90-2DA9425CE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B578A9D-43F0-4F16-B8CE-D10B7B2D12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C57A8DA-48B2-4D34-9868-984DCA99DE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5694D95-9E36-43F2-9F4B-C942E99014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F14D6D1-4E30-482B-BC1E-31E7A4E5B0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D3BAE06-4163-44C6-A1D6-F96F7443EE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3E821B9-3314-45E0-A39B-D9C8C44E8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10048A8-0D91-4B01-A077-9EC0984521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07E7AB8-5EFA-4D16-8909-67297BF91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C7D01E7-1101-4C16-9F6F-4886A191D8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735EA82-A120-4887-8858-66F8D9EA4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54788-BE93-4BA3-8A90-47BD1533D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516D712-9406-4B9A-929E-74B9A673A3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9191E91-BA53-44EA-A31E-1D1C0C9F83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AB0E0F2-EA1D-4CDA-A2AF-C8ED529469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6A6FF3E-DC78-4969-B97F-56FFFF6E28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F7F330B-1E4B-4963-8611-8A22980FFC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1D40108-BF63-4DA3-9B21-A1336F922F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D3F1B15-540F-4CF9-95ED-770B0CC7B2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AD3CD25-F9BA-4B57-90BA-CA6B3579E5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48DAF7F-FFC4-4030-828B-8CFF03CA99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E445A1-61D7-4299-8A15-235C569CC3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8246-16AB-4603-8DB5-ACB2423BA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DCC46CA-3CE5-427A-B187-B249FED2C8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E4069A-B6AB-4356-9B02-7C5261590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7EAE7F4-CF41-493A-8E94-05B6DF7379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B839C3A-BA82-4C60-801D-EA82D33F02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BD27BC1-0A4B-4F0A-995C-F667599BD0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F6F52-3DA1-40C1-9F13-119AEA761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627F-4859-412C-8D37-124B1DCE429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656E-ACAE-4CAB-A605-CF5ED022B01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E9DE-3970-4BA1-BEEB-4B8F18232D6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Arial"/>
              </a:rPr>
              <a:t>Click to edit the title text format</a:t>
            </a:r>
            <a:endParaRPr b="0" lang="en-US" sz="3000" spc="-1" strike="noStrike">
              <a:solidFill>
                <a:srgbClr val="dbf5f9"/>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EE77-E72C-4FEB-BC80-C0159920C1F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171E-E202-4944-9C40-9D467041D6B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BC0E-4608-417F-B889-AA5E0BDD9DB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345F-1DCC-4B54-8176-6D3BD048F74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4617b"/>
                </a:solidFill>
                <a:latin typeface="Arial"/>
              </a:rPr>
              <a:t>16-РАЗРЯДНЫЙ МИКРОПРОЦЕССОР </a:t>
            </a:r>
            <a:r>
              <a:rPr b="1" lang="en-US" sz="2000" spc="-1" strike="noStrike">
                <a:solidFill>
                  <a:srgbClr val="04617b"/>
                </a:solidFill>
                <a:latin typeface="Arial"/>
              </a:rPr>
              <a:t>I</a:t>
            </a:r>
            <a:r>
              <a:rPr b="1" lang="ru-RU" sz="2000" spc="-1" strike="noStrike">
                <a:solidFill>
                  <a:srgbClr val="04617b"/>
                </a:solidFill>
                <a:latin typeface="Arial"/>
              </a:rPr>
              <a:t>8086</a:t>
            </a:r>
            <a:br>
              <a:rPr sz="2000"/>
            </a:br>
            <a:endParaRPr b="0" lang="en-US" sz="2000" spc="-1" strike="noStrike">
              <a:solidFill>
                <a:srgbClr val="04617b"/>
              </a:solidFill>
              <a:latin typeface="Arial"/>
            </a:endParaRPr>
          </a:p>
        </p:txBody>
      </p:sp>
      <p:sp>
        <p:nvSpPr>
          <p:cNvPr id="352" name=""/>
          <p:cNvSpPr txBox="1"/>
          <p:nvPr/>
        </p:nvSpPr>
        <p:spPr>
          <a:xfrm>
            <a:off x="571320" y="1428840"/>
            <a:ext cx="7467480" cy="4967280"/>
          </a:xfrm>
          <a:prstGeom prst="rect">
            <a:avLst/>
          </a:prstGeom>
          <a:noFill/>
          <a:ln w="0">
            <a:noFill/>
          </a:ln>
        </p:spPr>
        <p:txBody>
          <a:bodyPr anchor="t">
            <a:normAutofit/>
          </a:bodyPr>
          <a:p>
            <a:pPr marL="4680" indent="-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a:t>
            </a:r>
            <a:r>
              <a:rPr b="0" i="1" lang="ru-RU" sz="1600" spc="-1" strike="noStrike">
                <a:solidFill>
                  <a:srgbClr val="000000"/>
                </a:solidFill>
                <a:latin typeface="Arial"/>
              </a:rPr>
              <a:t>16-разрядный</a:t>
            </a:r>
            <a:r>
              <a:rPr b="0" lang="ru-RU" sz="1600" spc="-1" strike="noStrike">
                <a:solidFill>
                  <a:srgbClr val="000000"/>
                </a:solidFill>
                <a:latin typeface="Arial"/>
              </a:rPr>
              <a:t> процессор i8086 фирма Intel выпустила в 1978 году. Частота - 5 Мгц, производительность - 0,33 MIPS для инструкций с 16-битными операндами (позже появились процессоры 8 и 10 МГц). Технология 3 мкм, 29 000 транзисторов. Адресуемая память 1 Мбайт. Через год появился i8088 - тот же процессор, но с 8-разрядной шиной данных. С него началась история IBM PC, неразрывно связанная со всем дальнейшим развитием процессоров Intel, Массовое распространение и открытость архитектуры IBM PC привели к лавинообразным темпам появления нового программного обеспечения, разрабатываемого крупными, средними и мелкими фирмами, а также энтузиастами-одиночками. Технический прогресс тогда и сейчас был бы немыслим без развития процессоров, но, с учетом огромного объема уже существующего программного обеспечения для PC, уже тогда возник принцип обратной программной совместимости - старые программы должны работать на новых процессорах. Таким образом, все нововведения в архитектуре последующих процессоров должны были пристраиваться к существующему ядру. </a:t>
            </a:r>
            <a:br>
              <a:rPr sz="1600"/>
            </a:br>
            <a:r>
              <a:rPr b="0" lang="ru-RU" sz="1600" spc="-1" strike="noStrike">
                <a:solidFill>
                  <a:srgbClr val="000000"/>
                </a:solidFill>
                <a:latin typeface="Arial"/>
              </a:rPr>
              <a:t>16-разрядный МП i8086 явился дальнейшим развитием линии однокристальных МП, начатой i8080.</a:t>
            </a:r>
            <a:endParaRPr b="0" lang="en-US" sz="1600" spc="-1" strike="noStrike">
              <a:solidFill>
                <a:srgbClr val="000000"/>
              </a:solidFill>
              <a:latin typeface="Arial"/>
            </a:endParaRPr>
          </a:p>
        </p:txBody>
      </p:sp>
      <p:sp>
        <p:nvSpPr>
          <p:cNvPr id="353" name="Заголовок 3"/>
          <p:cNvSpPr/>
          <p:nvPr/>
        </p:nvSpPr>
        <p:spPr>
          <a:xfrm>
            <a:off x="457200" y="274680"/>
            <a:ext cx="7467480" cy="922320"/>
          </a:xfrm>
          <a:prstGeom prst="rect">
            <a:avLst/>
          </a:prstGeom>
          <a:solidFill>
            <a:srgbClr val="85dfd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МИКРОПРОЦЕССОРЫ И МИКРОКОНТРОЛЛЕРЫ</a:t>
            </a:r>
            <a:br>
              <a:rPr sz="2400"/>
            </a:br>
            <a:r>
              <a:rPr b="1" lang="ru-RU" sz="1800" spc="-1" strike="noStrike">
                <a:solidFill>
                  <a:srgbClr val="000000"/>
                </a:solidFill>
                <a:latin typeface="Arial"/>
              </a:rPr>
              <a:t>часть</a:t>
            </a:r>
            <a:r>
              <a:rPr b="1" lang="en-US" sz="1800" spc="-1" strike="noStrike">
                <a:solidFill>
                  <a:srgbClr val="000000"/>
                </a:solidFill>
                <a:latin typeface="Arial"/>
              </a:rPr>
              <a:t> 2</a:t>
            </a:r>
            <a:br>
              <a:rPr sz="1800"/>
            </a:br>
            <a:endParaRPr b="0" lang="en-US" sz="1800" spc="-1" strike="noStrike">
              <a:solidFill>
                <a:srgbClr val="000000"/>
              </a:solidFill>
              <a:latin typeface="Arial"/>
            </a:endParaRPr>
          </a:p>
        </p:txBody>
      </p:sp>
      <p:pic>
        <p:nvPicPr>
          <p:cNvPr id="354" name="Picture 6" descr="D:\vvsu.gif"/>
          <p:cNvPicPr/>
          <p:nvPr/>
        </p:nvPicPr>
        <p:blipFill>
          <a:blip r:embed="rId1"/>
          <a:stretch/>
        </p:blipFill>
        <p:spPr>
          <a:xfrm>
            <a:off x="0" y="0"/>
            <a:ext cx="838080" cy="372960"/>
          </a:xfrm>
          <a:prstGeom prst="rect">
            <a:avLst/>
          </a:prstGeom>
          <a:ln w="0">
            <a:noFill/>
          </a:ln>
        </p:spPr>
      </p:pic>
      <p:sp>
        <p:nvSpPr>
          <p:cNvPr id="35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285480"/>
            <a:ext cx="7467480" cy="618804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ктически все команды МП i8086 могут работать как со словами (2 байта) так и с байтами. При работе со словами сигнал BHE\ разрешает передачу старшего байта слов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Сигнал STB отмечает наличие на линиях A/D и A/S адреса.</a:t>
            </a:r>
            <a:br>
              <a:rPr sz="1600"/>
            </a:br>
            <a:r>
              <a:rPr b="0" lang="ru-RU" sz="1600" spc="-1" strike="noStrike">
                <a:solidFill>
                  <a:srgbClr val="000000"/>
                </a:solidFill>
                <a:latin typeface="Arial"/>
              </a:rPr>
              <a:t>R и W\ стробируют данные на шине A/D соответственно при чтении и запис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 и OP-IP\ определяют соответственно устройство, с которым производится обмен (память - ВУ) и направление передачи информации (вывод - ввод) относительно процессор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 стробирует внешний буфер A/D при передаче данных.</a:t>
            </a:r>
            <a:br>
              <a:rPr sz="1600"/>
            </a:br>
            <a:r>
              <a:rPr b="0" lang="ru-RU" sz="1600" spc="-1" strike="noStrike">
                <a:solidFill>
                  <a:srgbClr val="000000"/>
                </a:solidFill>
                <a:latin typeface="Arial"/>
              </a:rPr>
              <a:t>Вход TEST\ предназначен для синхронизации программы с внешними процессами. Команда WAIT (ожидание) переводит процессор в режим ожидания, в котором он будет находиться до тех пор, пока на входе TEST\ удерживается высокий уровень сигнала (лог. "1"). При этом все магистрали МП переводятся в высокоимпедансное состоя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аналогично соответствующему входу МП i8080 обеспечивает возможность асинхронного машинного цикл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 устанавливает все регистры МП в 0, кроме CS, который устанавливается в FFFF и осуществляет запуск командного цикла. Таким образом, стартовый адрес i8086 - всегда FFFF0.</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INTA\ - соответственно запрос и подтверждение вешнего прерывания (подробнее см. раздел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MI - запрос внешнего немаскируемого прерывания по фиксированному вектору 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 HLDA - соответственно требование и предоставление прямого доступа в память (работает аналогично подсистеме ПДП i8080). В максимальном режиме вместо сигналов HLD, HLDA используются две двунаправленные линии RQ\/Ei\ - запрос шины/разрешение доступа, на которые работает специальная микросхема - арбитр шины.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4617b"/>
                </a:solidFill>
                <a:latin typeface="Arial"/>
              </a:rPr>
              <a:t> </a:t>
            </a:r>
            <a:r>
              <a:rPr b="1" lang="ru-RU" sz="2400" spc="-1" strike="noStrike">
                <a:solidFill>
                  <a:srgbClr val="04617b"/>
                </a:solidFill>
                <a:latin typeface="Arial"/>
              </a:rPr>
              <a:t>МАШИННЫЕ ЦИКЛЫ </a:t>
            </a:r>
            <a:r>
              <a:rPr b="1" lang="en-US" sz="2400" spc="-1" strike="noStrike">
                <a:solidFill>
                  <a:srgbClr val="04617b"/>
                </a:solidFill>
                <a:latin typeface="Arial"/>
              </a:rPr>
              <a:t>I</a:t>
            </a:r>
            <a:r>
              <a:rPr b="1" lang="ru-RU" sz="2400" spc="-1" strike="noStrike">
                <a:solidFill>
                  <a:srgbClr val="04617b"/>
                </a:solidFill>
                <a:latin typeface="Arial"/>
              </a:rPr>
              <a:t>8086 В МИНИМАЛЬНОМ И МАКСИМАЛЬНОМ РЕЖИМАХ </a:t>
            </a:r>
            <a:br>
              <a:rPr sz="2400"/>
            </a:br>
            <a:endParaRPr b="0" lang="en-US" sz="2400" spc="-1" strike="noStrike">
              <a:solidFill>
                <a:srgbClr val="04617b"/>
              </a:solidFill>
              <a:latin typeface="Arial"/>
            </a:endParaRPr>
          </a:p>
        </p:txBody>
      </p:sp>
      <p:sp>
        <p:nvSpPr>
          <p:cNvPr id="372" name=""/>
          <p:cNvSpPr txBox="1"/>
          <p:nvPr/>
        </p:nvSpPr>
        <p:spPr>
          <a:xfrm>
            <a:off x="468000" y="1413000"/>
            <a:ext cx="7467480" cy="542880"/>
          </a:xfrm>
          <a:prstGeom prst="rect">
            <a:avLst/>
          </a:prstGeom>
          <a:noFill/>
          <a:ln w="0">
            <a:noFill/>
          </a:ln>
        </p:spPr>
        <p:txBody>
          <a:bodyPr anchor="t">
            <a:normAutofit fontScale="93000"/>
          </a:bodyPr>
          <a:p>
            <a:pPr marL="8640" indent="-8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еменные диаграммы работы МП i8086 в минимальном режиме представлены</a:t>
            </a:r>
            <a:r>
              <a:rPr b="0" lang="en-US" sz="1600" spc="-1" strike="noStrike">
                <a:solidFill>
                  <a:srgbClr val="000000"/>
                </a:solidFill>
                <a:latin typeface="Arial"/>
              </a:rPr>
              <a:t> </a:t>
            </a:r>
            <a:r>
              <a:rPr b="0" lang="ru-RU" sz="1600" spc="-1" strike="noStrike">
                <a:solidFill>
                  <a:srgbClr val="000000"/>
                </a:solidFill>
                <a:latin typeface="Arial"/>
              </a:rPr>
              <a:t>на Рис 9.5. и Рис. 9.6:</a:t>
            </a:r>
            <a:endParaRPr b="0" lang="en-US" sz="1600" spc="-1" strike="noStrike">
              <a:solidFill>
                <a:srgbClr val="000000"/>
              </a:solidFill>
              <a:latin typeface="Arial"/>
            </a:endParaRPr>
          </a:p>
          <a:p>
            <a:pPr marL="8640" indent="-864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3" name="Picture 2" descr="9"/>
          <p:cNvPicPr/>
          <p:nvPr/>
        </p:nvPicPr>
        <p:blipFill>
          <a:blip r:embed="rId1"/>
          <a:stretch/>
        </p:blipFill>
        <p:spPr>
          <a:xfrm>
            <a:off x="826920" y="1916280"/>
            <a:ext cx="3942000" cy="4398840"/>
          </a:xfrm>
          <a:prstGeom prst="rect">
            <a:avLst/>
          </a:prstGeom>
          <a:ln w="0">
            <a:noFill/>
          </a:ln>
        </p:spPr>
      </p:pic>
      <p:sp>
        <p:nvSpPr>
          <p:cNvPr id="374" name="TextBox 4"/>
          <p:cNvSpPr/>
          <p:nvPr/>
        </p:nvSpPr>
        <p:spPr>
          <a:xfrm>
            <a:off x="1343520" y="6308640"/>
            <a:ext cx="454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5. Минимальный режим – цикл Ч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9"/>
          <p:cNvPicPr/>
          <p:nvPr/>
        </p:nvPicPr>
        <p:blipFill>
          <a:blip r:embed="rId1"/>
          <a:stretch/>
        </p:blipFill>
        <p:spPr>
          <a:xfrm>
            <a:off x="1714680" y="357120"/>
            <a:ext cx="5072040" cy="5675400"/>
          </a:xfrm>
          <a:prstGeom prst="rect">
            <a:avLst/>
          </a:prstGeom>
          <a:ln w="0">
            <a:noFill/>
          </a:ln>
        </p:spPr>
      </p:pic>
      <p:sp>
        <p:nvSpPr>
          <p:cNvPr id="376" name="TextBox 3"/>
          <p:cNvSpPr/>
          <p:nvPr/>
        </p:nvSpPr>
        <p:spPr>
          <a:xfrm>
            <a:off x="1962000" y="6143760"/>
            <a:ext cx="455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6. Минимальный режим – цикл ЗАПИС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кл начинается с формирования в T1 сигнала M/IO, определяющего тип устройства - память или ВУ, с которым осуществляется обмен данными. Длительность сигнала M/IO равна длительности цикла шины, и он используется для селекции адреса устройств. В T1 и в начале T2 МП выдает адрес A[19:16] и A[15:0] и сигнал BHE, который вместе с A0 определяет передачу слова или одного из байтов. По спаду строба ALE адрес фиксируется во внешних регистрах-защелках.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такте T2 происходит переключение шин: на выводы A[19:16]/ ST[6:3] поступают сигналы состояния; выводы A/D[15:0] в цикле ЧТЕНИЕ переводятся в высокоимпедансное состояние, а в цикле ЗАПИСЬ - на них выдаются данные, предназначенные для записи в устройств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Циклы ЧТЕНИЕ и ЗАПИСЬ отличаются не только активными значениями сигналов RD и WR и состоянием сигнала OP/IP, но и тем, что в цикле ЗАПИСЬ сигналы DEN и WR становятся активными раньше и имеют большую длительность, чем в цикле ЧТЕ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a:t>
            </a:r>
            <a:r>
              <a:rPr b="0" i="1" lang="ru-RU" sz="1600" spc="-1" strike="noStrike">
                <a:solidFill>
                  <a:srgbClr val="000000"/>
                </a:solidFill>
                <a:latin typeface="Arial"/>
              </a:rPr>
              <a:t>максимальном режиме</a:t>
            </a:r>
            <a:r>
              <a:rPr b="0" lang="ru-RU" sz="1600" spc="-1" strike="noStrike">
                <a:solidFill>
                  <a:srgbClr val="000000"/>
                </a:solidFill>
                <a:latin typeface="Arial"/>
              </a:rPr>
              <a:t> изменяются значения восьми управляющих сигналов МП, на основании которых системный контроллер К1810ВГ88 формирует системные управляющие сигналы. Временные диаграммы работы i8086 в максимальном режиме представлены на Рис. 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285480"/>
            <a:ext cx="7467480" cy="618804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 состояния S[2:0] выдается по срезу CLK в последнем такте предшествующего цикла, которым может быть T4 или TI. В такте T1 контроллер формирует строб ALE и устанавливает необходимый уровень на выходе OP/IP (DT/R). В такте T2 начинается формирование DEN, который в отличие от минимального режима имеет активный высокий уровень. Контроллер</a:t>
            </a:r>
            <a:r>
              <a:rPr b="0" lang="en-US" sz="1600" spc="-1" strike="noStrike">
                <a:solidFill>
                  <a:srgbClr val="000000"/>
                </a:solidFill>
                <a:latin typeface="Arial"/>
              </a:rPr>
              <a:t> </a:t>
            </a:r>
            <a:r>
              <a:rPr b="0" lang="ru-RU" sz="1600" spc="-1" strike="noStrike">
                <a:solidFill>
                  <a:srgbClr val="000000"/>
                </a:solidFill>
                <a:latin typeface="Arial"/>
              </a:rPr>
              <a:t>ВГ88 формирует так же MRDC\, IORC\, AMWC\, AIOWC\. Последние два - сигналы опережающей записи обеспечивают более длительный импульс записи, что может потребоваться для некоторых устройств. Следует помнить, что сигналы опережающей записи не гарантируют установку данных по началу импульса записи. При разработке контроллера. .ВГ88 предполагалось, что шина данных системы буферизована, поэтому сигналы MRDC, IORC, AMWC, AIOWC начинают формироваться еще до того, как МП переведет шину в третье состояние. Поэтому эти сигналы не должны подаваться на те устройства, которые подключены непосредственно к мультиплексированной шине A/D. На Рис. 9.  в рамки помещены сигналы, которые формирует системный контроллер К1810ВГ88.</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и работе в асинхронном режиме между тактами T3 и T4 могут появиться один или несколько тактов ожидания Tw, в течении которых МП удерживает в активном состоянии выводы ST2..ST0, так что контроллер сохраняет управление шиной в течение любого числа тактов ожидания Tw. Сигнал направления передачи OP/IP\, передаваемый на шинные формирователи (ШФ), устанавливается в такте T1, но работа ШФ не разрешается до появления сигнала DEN\ = 0 в такте T2. Строб данных DEN\ заканчивается в такте T4, что обеспечивает отключение ШФ до начала следующего цикла шин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714240" y="214200"/>
            <a:ext cx="6311880" cy="6045480"/>
          </a:xfrm>
          <a:prstGeom prst="rect">
            <a:avLst/>
          </a:prstGeom>
          <a:ln w="0">
            <a:noFill/>
          </a:ln>
        </p:spPr>
      </p:pic>
      <p:sp>
        <p:nvSpPr>
          <p:cNvPr id="380"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pic>
        <p:nvPicPr>
          <p:cNvPr id="382" name="Picture 2" descr=""/>
          <p:cNvPicPr/>
          <p:nvPr/>
        </p:nvPicPr>
        <p:blipFill>
          <a:blip r:embed="rId1"/>
          <a:stretch/>
        </p:blipFill>
        <p:spPr>
          <a:xfrm>
            <a:off x="1143000" y="214200"/>
            <a:ext cx="6311880" cy="58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4617b"/>
                </a:solidFill>
                <a:latin typeface="Arial"/>
              </a:rPr>
              <a:t> </a:t>
            </a:r>
            <a:r>
              <a:rPr b="1" lang="ru-RU" sz="2400" spc="-1" strike="noStrike">
                <a:solidFill>
                  <a:srgbClr val="04617b"/>
                </a:solidFill>
                <a:latin typeface="Arial"/>
              </a:rPr>
              <a:t>СТРУКТУРА МИКРОПРОЦЕССОРНЫХ МОДУЛЕЙ НА БАЗЕ МИКРОПРОЦЕССОРА </a:t>
            </a:r>
            <a:r>
              <a:rPr b="1" lang="en-US" sz="2400" spc="-1" strike="noStrike">
                <a:solidFill>
                  <a:srgbClr val="04617b"/>
                </a:solidFill>
                <a:latin typeface="Arial"/>
              </a:rPr>
              <a:t>I</a:t>
            </a:r>
            <a:r>
              <a:rPr b="1" lang="ru-RU" sz="2400" spc="-1" strike="noStrike">
                <a:solidFill>
                  <a:srgbClr val="04617b"/>
                </a:solidFill>
                <a:latin typeface="Arial"/>
              </a:rPr>
              <a:t>8086 </a:t>
            </a:r>
            <a:br>
              <a:rPr sz="2400"/>
            </a:br>
            <a:endParaRPr b="0" lang="en-US" sz="2400" spc="-1" strike="noStrike">
              <a:solidFill>
                <a:srgbClr val="04617b"/>
              </a:solidFill>
              <a:latin typeface="Arial"/>
            </a:endParaRPr>
          </a:p>
        </p:txBody>
      </p:sp>
      <p:sp>
        <p:nvSpPr>
          <p:cNvPr id="384" name=""/>
          <p:cNvSpPr txBox="1"/>
          <p:nvPr/>
        </p:nvSpPr>
        <p:spPr>
          <a:xfrm>
            <a:off x="456840" y="1599840"/>
            <a:ext cx="7467480" cy="132876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процессорных модулей на базе МП i8086 существенно зависит от выбранного режима работы МП.</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оцессорный модуль, представленный на рис. 9.8, работает аналогично процессорному модулю на базе i8080, но управляет памятью большего объема и может осуществлять обмен двухбайтовыми словам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5" name="Picture 2" descr="9"/>
          <p:cNvPicPr/>
          <p:nvPr/>
        </p:nvPicPr>
        <p:blipFill>
          <a:blip r:embed="rId1"/>
          <a:stretch/>
        </p:blipFill>
        <p:spPr>
          <a:xfrm>
            <a:off x="642960" y="3000240"/>
            <a:ext cx="4929120" cy="3213360"/>
          </a:xfrm>
          <a:prstGeom prst="rect">
            <a:avLst/>
          </a:prstGeom>
          <a:ln w="0">
            <a:noFill/>
          </a:ln>
        </p:spPr>
      </p:pic>
      <p:sp>
        <p:nvSpPr>
          <p:cNvPr id="386" name="TextBox 4"/>
          <p:cNvSpPr/>
          <p:nvPr/>
        </p:nvSpPr>
        <p:spPr>
          <a:xfrm>
            <a:off x="661320" y="6357960"/>
            <a:ext cx="673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8. Процессорный модуль на базе 8086 в мин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285480"/>
            <a:ext cx="746748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режим предполагает наличие в системе нескольких равноправных задатчиков, работающих на общую шину. При этом возможны варианты организации системы с одной системной шиной или с системной шиной и шиной ввода/вывода. Управление шинами осуществляется специализированными БИС: контроллером шины и арбитром шин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На Рис. 9.9 показана однопроцессорная конфигурация с системной шиной (СШ), представленной линиями адреса AB[15:0], линиями данных DB[19:0] и линиями управления: MRDC\, MWTC\, AMWTC\, IORC\, IOWC\, AIOWC\, INTA\.</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ряду с увеличением разрядности в i8086 реализован ряд новых архитектурных решений: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расширена система команд</a:t>
            </a:r>
            <a:r>
              <a:rPr b="0" lang="ru-RU" sz="1600" spc="-1" strike="noStrike">
                <a:solidFill>
                  <a:srgbClr val="000000"/>
                </a:solidFill>
                <a:latin typeface="Arial"/>
              </a:rPr>
              <a:t> (по набору операций и способам адрес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архитектура</a:t>
            </a:r>
            <a:r>
              <a:rPr b="0" lang="ru-RU" sz="1600" spc="-1" strike="noStrike">
                <a:solidFill>
                  <a:srgbClr val="000000"/>
                </a:solidFill>
                <a:latin typeface="Arial"/>
              </a:rPr>
              <a:t> МП </a:t>
            </a:r>
            <a:r>
              <a:rPr b="0" lang="ru-RU" sz="1600" spc="-1" strike="noStrike" u="sng">
                <a:solidFill>
                  <a:srgbClr val="000000"/>
                </a:solidFill>
                <a:uFillTx/>
                <a:latin typeface="Arial"/>
              </a:rPr>
              <a:t>ориентирована на мультипроцессорную работу</a:t>
            </a:r>
            <a:r>
              <a:rPr b="0" lang="ru-RU" sz="1600" spc="-1" strike="noStrike">
                <a:solidFill>
                  <a:srgbClr val="000000"/>
                </a:solidFill>
                <a:latin typeface="Arial"/>
              </a:rPr>
              <a:t>. Разработана группа вспомогательных БИС (контроллеров и специализированных процессоров) для организации </a:t>
            </a:r>
            <a:br>
              <a:rPr sz="1600"/>
            </a:br>
            <a:r>
              <a:rPr b="0" lang="ru-RU" sz="1600" spc="-1" strike="noStrike">
                <a:solidFill>
                  <a:srgbClr val="000000"/>
                </a:solidFill>
                <a:latin typeface="Arial"/>
              </a:rPr>
              <a:t>мультимикропроцессорных систем различной конфигур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начато движение в сторону совмещения во времени выполнения различных операций. МП включает </a:t>
            </a:r>
            <a:r>
              <a:rPr b="0" lang="ru-RU" sz="1600" spc="-1" strike="noStrike" u="sng">
                <a:solidFill>
                  <a:srgbClr val="000000"/>
                </a:solidFill>
                <a:uFillTx/>
                <a:latin typeface="Arial"/>
              </a:rPr>
              <a:t>два параллельно работающих устройства</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бработки данных и связи с магистралью, что позволяет совместить во времени процессы обработки информации и передачи ее по магистрал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дена новая (по сравнению с i8080) организация памяти, которая далее использовалась во всех старших моделях семейства INTEL - </a:t>
            </a:r>
            <a:r>
              <a:rPr b="0" lang="ru-RU" sz="1600" spc="-1" strike="noStrike" u="sng">
                <a:solidFill>
                  <a:srgbClr val="000000"/>
                </a:solidFill>
                <a:uFillTx/>
                <a:latin typeface="Arial"/>
              </a:rPr>
              <a:t>сегментация памяти</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сохранения преемственности модели с i8080 в i8086 предусмотрено два режима работы - "минимальный" и "максимальный", причем в минимальном режиме i8086 работает просто как достаточно быстрый 16-разрядный i8080 с расширенной системой команд (архитектура МПС на базе i8086-min напоминает архитектуру на базе i808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9"/>
          <p:cNvPicPr/>
          <p:nvPr/>
        </p:nvPicPr>
        <p:blipFill>
          <a:blip r:embed="rId1"/>
          <a:stretch/>
        </p:blipFill>
        <p:spPr>
          <a:xfrm>
            <a:off x="285840" y="214200"/>
            <a:ext cx="7529400" cy="5643720"/>
          </a:xfrm>
          <a:prstGeom prst="rect">
            <a:avLst/>
          </a:prstGeom>
          <a:ln w="0">
            <a:noFill/>
          </a:ln>
        </p:spPr>
      </p:pic>
      <p:sp>
        <p:nvSpPr>
          <p:cNvPr id="389" name="TextBox 4"/>
          <p:cNvSpPr/>
          <p:nvPr/>
        </p:nvSpPr>
        <p:spPr>
          <a:xfrm>
            <a:off x="828000" y="6143760"/>
            <a:ext cx="69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9.9. Однопроцессорная конфигурация для максимального режим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аксимальный режим</a:t>
            </a:r>
            <a:r>
              <a:rPr b="0" lang="ru-RU" sz="1600" spc="-1" strike="noStrike">
                <a:solidFill>
                  <a:srgbClr val="000000"/>
                </a:solidFill>
                <a:latin typeface="Arial"/>
              </a:rPr>
              <a:t> ориентирован на работу i8086 в составе мультимикропроцессорных систем, в которых, помимо нескольких центральных процессоров i8086, могут функционировать специализированные процессоры ввода/вывода i8089, сопроцессоры "плавающей арифметики" i8087.</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Определим более четко введенные выше понятия:</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Централь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по сбросу системы управление, как правило, передается центральному процессору (или одному из ЦП, если их несколько в систе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пециализирован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но инициализируется только по команде ЦП, по окончании выполнения программы сообщает ЦП о завершении работ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опроцессор</a:t>
            </a:r>
            <a:r>
              <a:rPr b="0" lang="ru-RU" sz="1600" spc="-1" strike="noStrike">
                <a:solidFill>
                  <a:srgbClr val="000000"/>
                </a:solidFill>
                <a:latin typeface="Arial"/>
              </a:rPr>
              <a:t> не поддерживает собственный командный цикл, выполняет команды, выбираемые для него ЦП из общего потока команд. По сути дела сопроцессор является расширением ЦП.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200" spc="-1" strike="noStrike">
                <a:solidFill>
                  <a:srgbClr val="04617b"/>
                </a:solidFill>
                <a:latin typeface="Arial"/>
              </a:rPr>
              <a:t>ВНУТРЕННЯЯ СТРУКТУРА </a:t>
            </a:r>
            <a:br>
              <a:rPr sz="2200"/>
            </a:br>
            <a:endParaRPr b="0" lang="en-US" sz="2200" spc="-1" strike="noStrike">
              <a:solidFill>
                <a:srgbClr val="04617b"/>
              </a:solidFill>
              <a:latin typeface="Arial"/>
            </a:endParaRPr>
          </a:p>
        </p:txBody>
      </p:sp>
      <p:sp>
        <p:nvSpPr>
          <p:cNvPr id="359" name=""/>
          <p:cNvSpPr txBox="1"/>
          <p:nvPr/>
        </p:nvSpPr>
        <p:spPr>
          <a:xfrm>
            <a:off x="468000" y="1413000"/>
            <a:ext cx="7467480" cy="48736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ная схема МП i8086 представлена на рис. МП включает в себя три основных устройства: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ОД - устройство обработки данных;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СМ - устройство связи с магистралью;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УС - устройство управления и синхронизации.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ОД предназначено для выполнения команд и включает в себя 16-разрядное АЛУ, системные регистры и другие вспомогательные схемы; блок регистров (РОН, базовые и индексные) и блок микропрограммного управления.</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СМ обеспечивает формирование 20-разрядного физического адреса памяти и 16-разрядного адреса ВУ, выбор команд из памяти, обмен данными с ЗУ, ВУ, другими процессорами по магистрали. УСМ включает в себя сумматор адреса, блок регистров очереди команд и блок сегментных регистров.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УС обеспечивает синхронизацию работы устройств МП, выработку управляющих сигналов и сигналов состояния для обмена с другими устройствами, анализ и соответствующую реакцию на сигналы других устройств МПС.</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10920" y="691920"/>
            <a:ext cx="7467480" cy="48733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может работать в одном из двух режимов - "минимальном" (min) и "максимальном" (max). Минимальный режим предназначен для реализации однопроцессорной конфигурации МПС с организацией, подобной МПС на базе i8080, но с увеличенным адресным пространством, более высоким быстродействием и значительно расширенной системой команд. Максимальная конфигурация предполагает наличие в системе нескольких МП и специального блока арбитра магистрали (используется интерфейс Multibus).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а внешних выводах МП i8086 широко используется принцип мультиплексирования сигналов - передача разных сигналов по общим линиям с разделением во времени. Кроме того, одни и те же выводы могут использоваться для передачи разных сигналов в зависимости от режима (min - max).</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иже приводится описание внешних выводов МП i8086. При описании выводов косой чертой разделены сигналы, появляющиеся на выводе в разные моменты машинного цикла. В круглых скобках указаны сигналы, характерные только для максимального режима. Символ \ после имени сигнала - знак его инверс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i8086"/>
          <p:cNvPicPr/>
          <p:nvPr/>
        </p:nvPicPr>
        <p:blipFill>
          <a:blip r:embed="rId1"/>
          <a:stretch/>
        </p:blipFill>
        <p:spPr>
          <a:xfrm>
            <a:off x="1284120" y="71280"/>
            <a:ext cx="6073920" cy="6159600"/>
          </a:xfrm>
          <a:prstGeom prst="rect">
            <a:avLst/>
          </a:prstGeom>
          <a:ln w="0">
            <a:noFill/>
          </a:ln>
        </p:spPr>
      </p:pic>
      <p:sp>
        <p:nvSpPr>
          <p:cNvPr id="362" name="TextBox 4"/>
          <p:cNvSpPr/>
          <p:nvPr/>
        </p:nvSpPr>
        <p:spPr>
          <a:xfrm>
            <a:off x="2000160" y="6357960"/>
            <a:ext cx="483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4. Внутренняя структура процессора i80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285480"/>
            <a:ext cx="7467480" cy="6188040"/>
          </a:xfrm>
          <a:prstGeom prst="rect">
            <a:avLst/>
          </a:prstGeom>
          <a:noFill/>
          <a:ln w="0">
            <a:noFill/>
          </a:ln>
        </p:spPr>
        <p:txBody>
          <a:bodyPr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5:0] - младшие [15:0] разряды адреса / данны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A[19:16]/ST[6:3] - старшие [19:16] разряды адреса / сигналы состоя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BHE\/ST[7] - разрешение передачи старшего байта данных / сигнал состояния;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STB(QS0) - строб адреса (состояние очереди команд);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 - чтени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W\/(LOCK\) - запись (блокировка кана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ST2\) - память - внешнее устройство (состояние цикла);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OP-IP\(ST1\) - выдача-прием (состояние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ST0\) - разрешение передачи данных (сост.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TEST\ - проверк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 запрос внешне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A\(QS1) - подтверждение прерывания (состояние очереди команд); </a:t>
            </a:r>
            <a:br>
              <a:rPr sz="1600"/>
            </a:br>
            <a:r>
              <a:rPr b="0" lang="ru-RU" sz="1600" spc="-1" strike="noStrike">
                <a:solidFill>
                  <a:srgbClr val="000000"/>
                </a:solidFill>
                <a:latin typeface="Arial"/>
              </a:rPr>
              <a:t>NMI - запрос немаскируемо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RQ\/E0) - запрос ПДП (запрос / подтверждение доступа к магистрали);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LDA(RQ\/E1) - подтверждение ПДП (запрос / подтверждение доступа к магистрали);</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N/MAX\ - потенциал задания режима (1-min, 0-max).</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гналы состояния ("статуса") используются для отображения внутреннего состояния МП. Некоторые группы статусных сигналов использ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ST[2:0]\ определяют тип текущего машинного цикла (аналогично PSW для i8080), и формир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1</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5" name=""/>
          <p:cNvGraphicFramePr/>
          <p:nvPr/>
        </p:nvGraphicFramePr>
        <p:xfrm>
          <a:off x="857160" y="2357280"/>
          <a:ext cx="6715080" cy="3746520"/>
        </p:xfrm>
        <a:graphic>
          <a:graphicData uri="http://schemas.openxmlformats.org/drawingml/2006/table">
            <a:tbl>
              <a:tblPr/>
              <a:tblGrid>
                <a:gridCol w="1677960"/>
                <a:gridCol w="1679760"/>
                <a:gridCol w="1679400"/>
                <a:gridCol w="1677960"/>
              </a:tblGrid>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ип машинного цик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служивание прерывани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танов</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влечение кода команд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ассивное состоя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2840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ST[5] отражает состояние флага разрешения прерывания IF, ST[6] всегда установлен в 0, когда МП обменивается информацией по магистрали, состояние ST[7] не определено (зарезервирован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QS[1:0] формируются только в максимальном режиме и отражают состояние очереди команд:</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3</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7" name=""/>
          <p:cNvGraphicFramePr/>
          <p:nvPr/>
        </p:nvGraphicFramePr>
        <p:xfrm>
          <a:off x="571680" y="824040"/>
          <a:ext cx="3429000" cy="1604880"/>
        </p:xfrm>
        <a:graphic>
          <a:graphicData uri="http://schemas.openxmlformats.org/drawingml/2006/table">
            <a:tbl>
              <a:tblPr/>
              <a:tblGrid>
                <a:gridCol w="1117440"/>
                <a:gridCol w="1119240"/>
                <a:gridCol w="1192320"/>
              </a:tblGrid>
              <a:tr h="48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333333"/>
                          </a:solidFill>
                          <a:latin typeface="Arial"/>
                          <a:ea typeface="Times New Roman"/>
                        </a:rPr>
                        <a:t>ST4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егментный регистр</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C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D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368" name=""/>
          <p:cNvGraphicFramePr/>
          <p:nvPr/>
        </p:nvGraphicFramePr>
        <p:xfrm>
          <a:off x="571680" y="4761000"/>
          <a:ext cx="4714560" cy="1527120"/>
        </p:xfrm>
        <a:graphic>
          <a:graphicData uri="http://schemas.openxmlformats.org/drawingml/2006/table">
            <a:tbl>
              <a:tblPr/>
              <a:tblGrid>
                <a:gridCol w="475920"/>
                <a:gridCol w="524160"/>
                <a:gridCol w="3714480"/>
              </a:tblGrid>
              <a:tr h="345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остояние очереди коман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Нет операции</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Очередь очищаетс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первы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очередно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31:08Z</dcterms:created>
  <dc:creator>Evgeniy</dc:creator>
  <dc:description/>
  <dc:language>en-US</dc:language>
  <cp:lastModifiedBy>Сивченко</cp:lastModifiedBy>
  <dcterms:modified xsi:type="dcterms:W3CDTF">2009-06-16T23:09:20Z</dcterms:modified>
  <cp:revision>35</cp:revision>
  <dc:subject/>
  <dc:title>Микропроцессоры и микроконтроллеры </dc:title>
</cp:coreProperties>
</file>